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A9B-4895-46B1-99DA-B2FF5A43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F79-AB33-47B9-AD00-233D50DD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902-488D-4E68-9EE6-70FA2202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C43E-F7EC-46FE-8B13-C8E6ECBF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E49-96EC-4811-BE0F-16A65644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09D-A58E-452C-846B-89AF1C14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BBC-E6AC-458D-B755-C01F837B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B19-2721-4A71-AA3E-F41D3513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344F-A7CA-49E7-A57A-3B08E63F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B28-4ED3-4EC6-933B-2E56BC00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A59-4EBF-4F18-926D-00C9E850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9D4-B0F3-43E4-9731-E28CB95D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8C1F-76E1-4049-BAF9-62E9C2AA29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cationupdate.com/archives/2004/apr04/issue/car_nixon.html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52680" y="5409720"/>
            <a:ext cx="243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By Kirsten Porcelli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ED 702.22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Dr. O’Conner-Petruso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Why Theater &amp; Music Matt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A study of how the integration of Theater and Music in the classroom shows an increase in students’ attention sp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6762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175248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11430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15000" y="3581280"/>
            <a:ext cx="144792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162920" y="3581280"/>
            <a:ext cx="18288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523880" y="3581280"/>
            <a:ext cx="128592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52280" y="3581280"/>
            <a:ext cx="13716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-6094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6600"/>
            <a:ext cx="32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663300"/>
                </a:solidFill>
                <a:latin typeface="Century Schoolbook"/>
              </a:rPr>
              <a:t>Table Of Contents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Century Schoolbook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Statement of 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Literature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Research Hypothe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981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0120" y="1981080"/>
            <a:ext cx="1523880" cy="28195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20120" y="4800600"/>
            <a:ext cx="1523880" cy="2057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0"/>
            <a:ext cx="762012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entury Schoolbook"/>
              </a:rPr>
              <a:t>Statement of Problem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Lack of theater and music in schools </a:t>
            </a:r>
            <a:r>
              <a:rPr b="0" i="1" lang="en-US" sz="2800" spc="-1" strike="noStrike">
                <a:solidFill>
                  <a:srgbClr val="ffff99"/>
                </a:solidFill>
                <a:latin typeface="Century Schoolbook"/>
              </a:rPr>
              <a:t>Why Children’s Theater Ma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Howard Gardner’s Multiple intellig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Student teaching, Broadway Babies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Budget cutting in schools.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entury Schoolbook"/>
                <a:hlinkClick r:id="rId1"/>
              </a:rPr>
              <a:t>Interview with Cynthia Nix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29718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971800" y="5029200"/>
            <a:ext cx="29718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943600" y="5029200"/>
            <a:ext cx="32004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90360" y="990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553080" cy="4114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Positive Impact of music &amp; theater on soci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cognitive &amp; academic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Mason, Steedly &amp; Thormann (n.d); Zastrow (2004); Catterall (2002); Betts, Fisher &amp; Hicks (n.d), Wood (2006,200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Increase of Expression &amp;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Crehan (n.d); MENC: The National Association for Music Education (1991); Humphreys (2007); Vermont Arts Council (2006)</a:t>
            </a:r>
            <a:r>
              <a:rPr b="1" lang="en-US" sz="2400" spc="-1" strike="noStrike">
                <a:solidFill>
                  <a:srgbClr val="6633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514600" cy="140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Music increases the attention s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Stanford University Medical Center (2007); Wood (2006, 2007); Singh (199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429000"/>
            <a:ext cx="8001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Research/studies on the benefits of arts   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Burnaford, Brown, Doherty &amp; McLaug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(2007);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Betts, Fisher &amp; Hicks (n.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2057400" cy="1981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Research Hypothesis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entury Schoolbook"/>
              </a:rPr>
              <a:t>By integrating music and theater into a first grade classroom at the P.S. 152 annex in Brooklyn, NY, their attention span throughout the day will increase.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08200" y="5105520"/>
            <a:ext cx="211320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56080" y="5105520"/>
            <a:ext cx="137484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551560" y="5105520"/>
            <a:ext cx="17445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940440" y="5105520"/>
            <a:ext cx="22035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384200" y="5105520"/>
            <a:ext cx="154944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0" y="5105520"/>
            <a:ext cx="16527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4:40:03Z</dcterms:created>
  <dc:creator>The Punishers</dc:creator>
  <dc:description/>
  <dc:language>en-US</dc:language>
  <cp:lastModifiedBy>The Punishers</cp:lastModifiedBy>
  <dcterms:modified xsi:type="dcterms:W3CDTF">2008-10-14T23:04:06Z</dcterms:modified>
  <cp:revision>34</cp:revision>
  <dc:subject/>
  <dc:title>By Kirsten Porcelli ED 702.22 Fall 2008 Dr. O’Connor-Petruso</dc:title>
</cp:coreProperties>
</file>